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E7D6F-7D30-4C91-A1FB-E800871EB37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B4A4-AD03-4CB1-B7E5-2925B395A1B3}"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BB96-410C-42C9-8CA0-520E157DAC2B}"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6675B-9508-4035-B68E-097E16DEE550}"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4752-01F3-4B77-A60F-FC79C6B5D5C5}"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C73C5-D758-4308-B8F2-130C83617186}"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0DFE-4C58-4870-8AF7-3CC15ACEB90C}"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F63B-E5E4-476A-9500-B1DC98590A26}"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623A-CEB7-4E6E-A209-D3449CABDB74}"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C42A4-CDC3-4C51-B24E-C1CBD449FF3D}"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26FD-6A85-429A-B120-C772F02EFF91}"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5E82-4601-425E-BE59-6C2C3F94C49B}"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5A27-C922-4B31-AD6E-DE93F32CFF7E}"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2A256-E749-4F95-BA8A-BB4E8D5FE3BF}"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61FF9-60CC-4616-95CF-9324C5FC3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4FB5A-1B8C-4960-906D-D6B65F0D1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517BF-4F62-44F8-A6EF-D6506C9B0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91912-DD6E-4A31-B79E-5A1810E6E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ED4FE0-45BE-4DB7-8AB6-FB1597902B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63468-9E6E-4298-B2F1-35BF719C9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1F6E0-806A-415B-B786-4F3BB8E74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03BEF-68E7-4EEB-96AA-4FC3828C7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A8BDA-413C-4243-83A9-7DEC616E7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021FE-15FC-4337-BAA8-6E2B312DA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710A7-79C6-44F6-A5F3-E8E5A92FA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1B9E7-D323-4BDD-818C-02C84E366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E680B-EB55-4782-BB87-7CAF349DD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61D7A-CE0B-4BC1-9765-B689F63B3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73766-5B6E-4EF1-B545-A80E111FB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9CFF0-AEF3-4CA1-BDEE-2486B1250D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4EC076-6662-4077-9866-F8D5D6E22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2AAFD0-573A-4DFD-AF33-0D379DA269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926B33-0D24-4C36-A9C2-C2B5341AD2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391B47-197F-4C1A-96B3-A71FB407B1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860EB4-CDD2-468C-806E-8B0AA01E05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EF9D3D-BA1A-4BAD-BBFB-8DF5B15036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1BA73-938B-48C0-A0D9-D0FB1E0A5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DFB711-8AC2-4094-AD19-9E729719E2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B3C233-4401-4A16-B3AA-762470116A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D2BBF4-064A-4C6B-8BB7-1B690B67CE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D7F231-6203-4189-A721-DDC933596A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E50F22-D333-4115-AAC1-BBC335E2BF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086A9F-BFB6-4D30-8DA2-16D7414B9E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718155-3D41-444F-9FC4-88D894C8BA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55EE4D-8C00-4D82-B5C1-3B6428E480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B9DD92-0D04-422E-946E-D82D5A2386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276C81-FB7F-4654-8C4F-0ABDEBBA8E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0DAAE-5B30-47A8-8951-81C63A693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C3EC57-9BCF-495E-AF14-C8C62E7456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DB4424-8CD1-475B-9315-535216F498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BB10D3-452C-4880-AE33-C1DBABED79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293E49-1016-46CC-899B-6817C505DA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51F770-5427-4164-A4D1-BA0F71D6F1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D1E16E-2B9E-4220-9666-EFA26478DF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1B3A28-5508-41C6-9436-006FA036A4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7ABF4C-C944-4067-9E99-6F0C639A68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068545-7857-486F-8A09-4929BB5759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CC709A-1C9A-4EA5-9DE6-9D9A1A7462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F1528-B633-4EF4-BB97-B42E9A420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6A858B-6CDD-4A56-BE82-B7C89ECC9D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EAD053-1542-403A-9CA1-15D57687E0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841F37-AAF8-4C88-B97C-0479CD98B8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8934C9-11BC-47BA-97BC-FEE043FBE1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8D9599-146F-4DE6-B1D0-4E819CCE75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7AB8C1-FAE8-4B55-909C-CDC0653E47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ADAC53-E207-49C7-94CE-F474CEEAA4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3AAB94-1851-40C0-B615-61444ABEA8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379548-0143-46B6-BA32-1E4C72CF78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2E7AA6-41B4-48ED-B8BD-7BF356E308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86CCE-10BE-47FE-BE8A-F0C2E51E5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DCFB61-08E6-4730-8C7B-707A2824DD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FED265-62FC-42F4-A804-D1D282ED65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B3455F-140A-403F-B4C4-06E61B5100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255C2C-3B37-49C3-AD15-3FFB3CACB7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418639-F6A1-4D62-BDA2-AA1562590F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AC7D2C-1372-42FA-9426-F5FA896F58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2D8A2A-280B-446B-BA1F-276A0450C6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42EDAD-828C-455F-80B4-48F4A79530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7DD4E3-1D33-4ED5-B77F-FF2858AC72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A66FD9-6929-44F2-8FA2-972713821A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0C46F-0E97-44AE-8ACA-D57DAD509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C95889-4E38-41D1-91FB-02459F501C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4E9F47-D27C-4ED7-8D09-FEB7A63DA5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5214E0-EF5D-489A-845E-10098B1BD8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0271CB-798E-43B6-B600-8F0BB4CC7E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BA1162-0857-4C32-B5CD-7646EDD5C5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4869D9-206F-4AB4-AEA0-8A4D233F05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20F369-5497-42F8-8AFF-E824BCD0A1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F0AE83-01F2-4745-9E49-1B754A9B13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834598-2F06-4291-A1A4-1565234D8C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628A46-8D0C-4FF4-98C5-FCBFAA968E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9D884-3A70-4417-8CA5-66A10E0CE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ED6013-70A9-4667-B7FE-09E8DA661B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B4A6A1-C55F-4722-AC2C-A70DDDCDA5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117478-BFA5-4EE2-83FD-284319FF6E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A4F9FA-F5EE-4894-926C-AAD27056CF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15AC57-E971-4D08-A5A4-DF74D7626C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2716A-7290-448B-AD61-FF7E7F6D0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F5D0-0E3B-4688-AB0E-942F8C3EBB7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8A00-4F41-4A38-9E42-77D545411E5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37BC-C950-405D-B309-6D8B74BC282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5BA0-73C1-4F6E-B3AA-13FFC707EC4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9D7E-3FFF-4DA5-9EC4-F1D108F987C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2B0C2-D583-4A49-8002-97D7AC54D68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1E75-46B5-4837-9925-5F76D56F82A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682560" y="4237200"/>
            <a:ext cx="8010720" cy="2090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038120" y="304920"/>
            <a:ext cx="2057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JES</a:t>
            </a:r>
            <a:endParaRPr b="0" lang="en-US" sz="4000" spc="-1" strike="noStrike">
              <a:solidFill>
                <a:srgbClr val="c1eeff"/>
              </a:solidFill>
              <a:latin typeface="Consolas"/>
            </a:endParaRPr>
          </a:p>
        </p:txBody>
      </p:sp>
      <p:pic>
        <p:nvPicPr>
          <p:cNvPr id="395" name="Picture 2" descr=""/>
          <p:cNvPicPr/>
          <p:nvPr/>
        </p:nvPicPr>
        <p:blipFill>
          <a:blip r:embed="rId1"/>
          <a:stretch/>
        </p:blipFill>
        <p:spPr>
          <a:xfrm>
            <a:off x="1143000" y="1219320"/>
            <a:ext cx="6710400" cy="516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How to start</a:t>
            </a:r>
            <a:endParaRPr b="0" lang="en-US" sz="40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def</a:t>
            </a:r>
            <a:r>
              <a:rPr b="0" lang="en-US" sz="3000" spc="-1" strike="noStrike">
                <a:solidFill>
                  <a:srgbClr val="ffffff"/>
                </a:solidFill>
                <a:latin typeface="Corbel"/>
              </a:rPr>
              <a:t> function()</a:t>
            </a:r>
            <a:r>
              <a:rPr b="0" lang="en-US" sz="3000" spc="-1" strike="noStrike">
                <a:solidFill>
                  <a:srgbClr val="ffff00"/>
                </a:solidFill>
                <a:latin typeface="Corbel"/>
              </a:rPr>
              <a: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	</a:t>
            </a:r>
            <a:r>
              <a:rPr b="0" lang="en-US" sz="3000" spc="-1" strike="noStrike">
                <a:solidFill>
                  <a:srgbClr val="ffff00"/>
                </a:solidFill>
                <a:latin typeface="Corbel"/>
              </a:rPr>
              <a:t>print </a:t>
            </a:r>
            <a:r>
              <a:rPr b="0" lang="en-US" sz="3000" spc="-1" strike="noStrike">
                <a:solidFill>
                  <a:srgbClr val="ffffff"/>
                </a:solidFill>
                <a:latin typeface="Corbel"/>
              </a:rPr>
              <a:t>“Hello World”</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def</a:t>
            </a:r>
            <a:r>
              <a:rPr b="0" lang="en-US" sz="3000" spc="-1" strike="noStrike">
                <a:solidFill>
                  <a:srgbClr val="ffffff"/>
                </a:solidFill>
                <a:latin typeface="Corbel"/>
              </a:rPr>
              <a:t> otherFunction()</a:t>
            </a:r>
            <a:r>
              <a:rPr b="0" lang="en-US" sz="3000" spc="-1" strike="noStrike">
                <a:solidFill>
                  <a:srgbClr val="ffff00"/>
                </a:solidFill>
                <a:latin typeface="Corbel"/>
              </a:rPr>
              <a: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	</a:t>
            </a:r>
            <a:r>
              <a:rPr b="0" lang="en-US" sz="3000" spc="-1" strike="noStrike">
                <a:solidFill>
                  <a:srgbClr val="ffff00"/>
                </a:solidFill>
                <a:latin typeface="Corbel"/>
              </a:rPr>
              <a:t>print </a:t>
            </a:r>
            <a:r>
              <a:rPr b="0" lang="en-US" sz="3000" spc="-1" strike="noStrike">
                <a:solidFill>
                  <a:srgbClr val="ffffff"/>
                </a:solidFill>
                <a:latin typeface="Corbel"/>
              </a:rPr>
              <a:t>“Hello World Again!”</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8" name="Right Arrow 3"/>
          <p:cNvSpPr/>
          <p:nvPr/>
        </p:nvSpPr>
        <p:spPr>
          <a:xfrm>
            <a:off x="1066680" y="2514600"/>
            <a:ext cx="304920" cy="304920"/>
          </a:xfrm>
          <a:prstGeom prst="rightArrow">
            <a:avLst>
              <a:gd name="adj1" fmla="val 50000"/>
              <a:gd name="adj2" fmla="val 50000"/>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99" name="TextBox 4"/>
          <p:cNvSpPr/>
          <p:nvPr/>
        </p:nvSpPr>
        <p:spPr>
          <a:xfrm>
            <a:off x="2971800" y="5029200"/>
            <a:ext cx="3657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ndentation groups statements together</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97">
                                            <p:txEl>
                                              <p:pRg st="3" end="3"/>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397">
                                            <p:txEl>
                                              <p:pRg st="4" end="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nd then…</a:t>
            </a:r>
            <a:endParaRPr b="0" lang="en-US" sz="4000" spc="-1" strike="noStrike">
              <a:solidFill>
                <a:srgbClr val="c1eeff"/>
              </a:solidFill>
              <a:latin typeface="Consolas"/>
            </a:endParaRPr>
          </a:p>
        </p:txBody>
      </p:sp>
      <p:sp>
        <p:nvSpPr>
          <p:cNvPr id="401"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ave then LOA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all your function</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ass Exercise</a:t>
            </a:r>
            <a:endParaRPr b="0" lang="en-US" sz="4000" spc="-1" strike="noStrike">
              <a:solidFill>
                <a:srgbClr val="c1eeff"/>
              </a:solidFill>
              <a:latin typeface="Consolas"/>
            </a:endParaRPr>
          </a:p>
        </p:txBody>
      </p:sp>
      <p:sp>
        <p:nvSpPr>
          <p:cNvPr id="403"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Define a function(using the def keyword) called Lab1Program</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reate a variable called name and place in it your name, e.g. name = “Maha”</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rint out the statement: “My name is “ + name</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reate a new variable called myNum, place the value 5.5 in it</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alculate the value of myNum*4, place the answer in the variable myNum</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rint out myNum+3</a:t>
            </a:r>
            <a:endParaRPr b="0" lang="en-US" sz="2800" spc="-1" strike="noStrike">
              <a:solidFill>
                <a:srgbClr val="ffffff"/>
              </a:solidFill>
              <a:latin typeface="Corbel"/>
            </a:endParaRPr>
          </a:p>
          <a:p>
            <a:pPr marL="559080" indent="-493200">
              <a:lnSpc>
                <a:spcPct val="90000"/>
              </a:lnSpc>
              <a:spcBef>
                <a:spcPts val="700"/>
              </a:spcBef>
              <a:buClr>
                <a:srgbClr val="d6ecff"/>
              </a:buClr>
              <a:buSzPct val="95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lgorithms</a:t>
            </a:r>
            <a:endParaRPr b="0" lang="en-US" sz="4000" spc="-1" strike="noStrike">
              <a:solidFill>
                <a:srgbClr val="c1eeff"/>
              </a:solidFill>
              <a:latin typeface="Consolas"/>
            </a:endParaRPr>
          </a:p>
        </p:txBody>
      </p:sp>
      <p:sp>
        <p:nvSpPr>
          <p:cNvPr id="377" name=""/>
          <p:cNvSpPr txBox="1"/>
          <p:nvPr/>
        </p:nvSpPr>
        <p:spPr>
          <a:xfrm>
            <a:off x="914040" y="1784520"/>
            <a:ext cx="335268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a:t>
            </a:r>
            <a:r>
              <a:rPr b="1" lang="en-US" sz="3000" spc="-1" strike="noStrike">
                <a:solidFill>
                  <a:srgbClr val="ffff00"/>
                </a:solidFill>
                <a:latin typeface="Corbel"/>
              </a:rPr>
              <a:t>sequenc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of instructions</a:t>
            </a:r>
            <a:endParaRPr b="0" lang="en-US" sz="3000" spc="-1" strike="noStrike">
              <a:solidFill>
                <a:srgbClr val="ffffff"/>
              </a:solidFill>
              <a:latin typeface="Corbel"/>
            </a:endParaRPr>
          </a:p>
        </p:txBody>
      </p:sp>
      <p:sp>
        <p:nvSpPr>
          <p:cNvPr id="378" name="TextBox 3"/>
          <p:cNvSpPr/>
          <p:nvPr/>
        </p:nvSpPr>
        <p:spPr>
          <a:xfrm>
            <a:off x="4724280" y="1371600"/>
            <a:ext cx="38102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1. Preheat oven to 350 degrees F (175 degrees C). Grease and flour a 9x9 inch pan or line a muffin pan with paper liners. </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2. In a medium bowl, cream together the sugar and butter. Beat in the eggs, one at a time, then stir in the vanilla. 3.Combine flour and baking powder, add to the creamed mixture and mix well. Finally stir in the milk until batter is smooth. Pour or spoon batter into the prepared pan. </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4. Bake for 30 to 40 minutes in the preheated oven. Cake is done when it springs back to the touch. </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pic>
        <p:nvPicPr>
          <p:cNvPr id="379" name="Picture 2" descr=""/>
          <p:cNvPicPr/>
          <p:nvPr/>
        </p:nvPicPr>
        <p:blipFill>
          <a:blip r:embed="rId1"/>
          <a:stretch/>
        </p:blipFill>
        <p:spPr>
          <a:xfrm>
            <a:off x="5067360" y="1504800"/>
            <a:ext cx="3085920" cy="4210200"/>
          </a:xfrm>
          <a:prstGeom prst="rect">
            <a:avLst/>
          </a:prstGeom>
          <a:ln w="0">
            <a:noFill/>
          </a:ln>
        </p:spPr>
      </p:pic>
    </p:spTree>
  </p:cSld>
  <p:transition>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7" dur="500"/>
                                        <p:tgtEl>
                                          <p:spTgt spid="377">
                                            <p:txEl>
                                              <p:pRg st="2" end="2"/>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10" dur="500"/>
                                        <p:tgtEl>
                                          <p:spTgt spid="377">
                                            <p:txEl>
                                              <p:pRg st="3" end="3"/>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gtEl>
                                        <p:attrNameLst>
                                          <p:attrName>style.visibility</p:attrName>
                                        </p:attrNameLst>
                                      </p:cBhvr>
                                      <p:to>
                                        <p:strVal val="visible"/>
                                      </p:to>
                                    </p:set>
                                  </p:childTnLst>
                                </p:cTn>
                              </p:par>
                              <p:par>
                                <p:cTn id="15" nodeType="withEffect" fill="hold" presetClass="entr" presetID="2" presetSubtype="4">
                                  <p:stCondLst>
                                    <p:cond delay="0"/>
                                  </p:stCondLst>
                                  <p:childTnLst>
                                    <p:set>
                                      <p:cBhvr>
                                        <p:cTn id="16" dur="1" fill="hold">
                                          <p:stCondLst>
                                            <p:cond delay="0"/>
                                          </p:stCondLst>
                                        </p:cTn>
                                        <p:tgtEl>
                                          <p:spTgt spid="378"/>
                                        </p:tgtEl>
                                        <p:attrNameLst>
                                          <p:attrName>style.visibility</p:attrName>
                                        </p:attrNameLst>
                                      </p:cBhvr>
                                      <p:to>
                                        <p:strVal val="visible"/>
                                      </p:to>
                                    </p:set>
                                    <p:anim calcmode="lin" valueType="num">
                                      <p:cBhvr additive="base">
                                        <p:cTn id="17" dur="500" fill="hold"/>
                                        <p:tgtEl>
                                          <p:spTgt spid="378"/>
                                        </p:tgtEl>
                                        <p:attrNameLst>
                                          <p:attrName>ppt_x</p:attrName>
                                        </p:attrNameLst>
                                      </p:cBhvr>
                                      <p:tavLst>
                                        <p:tav tm="0">
                                          <p:val>
                                            <p:strVal val="#ppt_x"/>
                                          </p:val>
                                        </p:tav>
                                        <p:tav tm="100000">
                                          <p:val>
                                            <p:strVal val="#ppt_x"/>
                                          </p:val>
                                        </p:tav>
                                      </p:tavLst>
                                    </p:anim>
                                    <p:anim calcmode="lin" valueType="num">
                                      <p:cBhvr additive="base">
                                        <p:cTn id="18" dur="500" fill="hold"/>
                                        <p:tgtEl>
                                          <p:spTgt spid="378"/>
                                        </p:tgtEl>
                                        <p:attrNameLst>
                                          <p:attrName>ppt_y</p:attrName>
                                        </p:attrNameLst>
                                      </p:cBhvr>
                                      <p:tavLst>
                                        <p:tav tm="0">
                                          <p:val>
                                            <p:strVal val="1+#ppt_h/2"/>
                                          </p:val>
                                        </p:tav>
                                        <p:tav tm="100000">
                                          <p:val>
                                            <p:strVal val="#ppt_y"/>
                                          </p:val>
                                        </p:tav>
                                      </p:tavLst>
                                    </p:anim>
                                  </p:childTnLst>
                                </p:cTn>
                              </p:par>
                              <p:par>
                                <p:cTn id="19" nodeType="withEffect" fill="hold" presetClass="entr" presetID="1">
                                  <p:stCondLst>
                                    <p:cond delay="0"/>
                                  </p:stCondLst>
                                  <p:childTnLst>
                                    <p:set>
                                      <p:cBhvr>
                                        <p:cTn id="20" dur="1" fill="hold">
                                          <p:stCondLst>
                                            <p:cond delay="0"/>
                                          </p:stCondLst>
                                        </p:cTn>
                                        <p:tgtEl>
                                          <p:spTgt spid="37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379"/>
                                        </p:tgtEl>
                                        <p:attrNameLst>
                                          <p:attrName>style.visibility</p:attrName>
                                        </p:attrNameLst>
                                      </p:cBhvr>
                                      <p:to>
                                        <p:strVal val="visible"/>
                                      </p:to>
                                    </p:set>
                                  </p:childTnLst>
                                </p:cTn>
                              </p:par>
                              <p:par>
                                <p:cTn id="25" nodeType="withEffect" fill="hold" presetClass="exit" presetID="1">
                                  <p:stCondLst>
                                    <p:cond delay="0"/>
                                  </p:stCondLst>
                                  <p:childTnLst>
                                    <p:set>
                                      <p:cBhvr>
                                        <p:cTn id="26" dur="1" fill="hold">
                                          <p:stCondLst>
                                            <p:cond delay="0"/>
                                          </p:stCondLst>
                                        </p:cTn>
                                        <p:tgtEl>
                                          <p:spTgt spid="3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09680" y="28195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mputers are dumb</a:t>
            </a:r>
            <a:endParaRPr b="0" lang="en-US" sz="4000" spc="-1" strike="noStrike">
              <a:solidFill>
                <a:srgbClr val="c1eeff"/>
              </a:solidFill>
              <a:latin typeface="Consola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anguage</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int: its not English</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Jython</a:t>
            </a:r>
            <a:endParaRPr b="0" lang="en-US" sz="4000" spc="-1" strike="noStrike">
              <a:solidFill>
                <a:srgbClr val="c1eeff"/>
              </a:solidFill>
              <a:latin typeface="Consolas"/>
            </a:endParaRPr>
          </a:p>
        </p:txBody>
      </p:sp>
      <p:pic>
        <p:nvPicPr>
          <p:cNvPr id="384" name="Picture 3" descr="C:\jes-3-1-windows.1\jes-3-1\images\JESsplash-v3.png"/>
          <p:cNvPicPr/>
          <p:nvPr/>
        </p:nvPicPr>
        <p:blipFill>
          <a:blip r:embed="rId1"/>
          <a:stretch/>
        </p:blipFill>
        <p:spPr>
          <a:xfrm>
            <a:off x="2590920" y="2666880"/>
            <a:ext cx="4165560" cy="3124440"/>
          </a:xfrm>
          <a:prstGeom prst="rect">
            <a:avLst/>
          </a:prstGeom>
          <a:ln w="0">
            <a:noFill/>
          </a:ln>
        </p:spPr>
      </p:pic>
      <p:sp>
        <p:nvSpPr>
          <p:cNvPr id="385" name="TextBox 5"/>
          <p:cNvSpPr/>
          <p:nvPr/>
        </p:nvSpPr>
        <p:spPr>
          <a:xfrm>
            <a:off x="3352680" y="1905120"/>
            <a:ext cx="2514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ython in Java</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esson 1: “Hello World!”</a:t>
            </a:r>
            <a:endParaRPr b="0" lang="en-US" sz="4000" spc="-1" strike="noStrike">
              <a:solidFill>
                <a:srgbClr val="c1eeff"/>
              </a:solidFill>
              <a:latin typeface="Consolas"/>
            </a:endParaRPr>
          </a:p>
        </p:txBody>
      </p:sp>
      <p:sp>
        <p:nvSpPr>
          <p:cNvPr id="387"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rbel"/>
              </a:rPr>
              <a:t>print</a:t>
            </a:r>
            <a:r>
              <a:rPr b="0" lang="en-US" sz="3000" spc="-1" strike="noStrike">
                <a:solidFill>
                  <a:srgbClr val="ffffff"/>
                </a:solidFill>
                <a:latin typeface="Corbel"/>
              </a:rPr>
              <a:t> “Hello World”</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38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esson 2: Data Types</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teger</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4,-2,100</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loat</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4.878, 2.0</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tring</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t>
            </a:r>
            <a:r>
              <a:rPr b="0" lang="en-US" sz="2600" spc="-1" strike="noStrike">
                <a:solidFill>
                  <a:srgbClr val="ffffff"/>
                </a:solidFill>
                <a:latin typeface="Corbel"/>
              </a:rPr>
              <a:t>Hello!123#$”</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esson 3: Variables</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tore data</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Jython gets i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X= “Hi”</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X = 5.67</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X= 2</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Quick Test</a:t>
            </a:r>
            <a:endParaRPr b="0" lang="en-US" sz="4000" spc="-1" strike="noStrike">
              <a:solidFill>
                <a:srgbClr val="c1eeff"/>
              </a:solidFill>
              <a:latin typeface="Consolas"/>
            </a:endParaRPr>
          </a:p>
        </p:txBody>
      </p:sp>
      <p:sp>
        <p:nvSpPr>
          <p:cNvPr id="393" name=""/>
          <p:cNvSpPr txBox="1"/>
          <p:nvPr/>
        </p:nvSpPr>
        <p:spPr>
          <a:xfrm>
            <a:off x="914400" y="1447920"/>
            <a:ext cx="7772400" cy="495288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3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Hello” + “  “ + “World” + “!”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22+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22” + “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22” + 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22” * 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t 5/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x = 5</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print x*3</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6:51:38Z</dcterms:created>
  <dc:creator>mshouman</dc:creator>
  <dc:description/>
  <dc:language>en-US</dc:language>
  <cp:lastModifiedBy>mshouman</cp:lastModifiedBy>
  <dcterms:modified xsi:type="dcterms:W3CDTF">2009-03-04T20:47:49Z</dcterms:modified>
  <cp:revision>56</cp:revision>
  <dc:subject/>
  <dc:title>Programming</dc:title>
</cp:coreProperties>
</file>